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6DA5-CE29-4C1C-8AB7-AE129723A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054C-E5D0-4578-A73E-8C076A330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A76-CE33-4F4E-88DD-B04B6ECD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E4E-71A5-43C1-A710-FAC673E3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465-5F8E-4CCB-B29E-998B1427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AF1-C4DA-4181-9474-7C68D884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870-16C1-4895-95B3-95E9464F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991-52BA-40E1-BB14-5EACFAAE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F0B-1E22-42FE-AC2C-71693F11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B68-3186-4779-B0C0-80BE9AF7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0D4-A382-43CB-8E6E-40D4F32F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475-8387-4BE7-A936-CA7B91E1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C6E-4B18-4244-A17B-C56020E5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72A-2CBE-4E81-831E-B986D89F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AB19-5AD9-4D7D-AD87-831719261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0/Persepolis_24.11.2009_11-49-59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ehmooni2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an and Pers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Far have They 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Akeem 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an and Persia are interchangeable to mean the same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an is legal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ia was an ancient Kingdom within I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ing the dominant kingdom in Iran gave Persia it’s powerful outlook similar to England in Brit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the historically Pers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upload.wikimedia.org/wikipedia/commons/8/84/KyrosCeremonies.jpg"/>
          <p:cNvPicPr/>
          <p:nvPr/>
        </p:nvPicPr>
        <p:blipFill>
          <a:blip r:embed="rId1"/>
          <a:stretch/>
        </p:blipFill>
        <p:spPr>
          <a:xfrm>
            <a:off x="5867280" y="4648320"/>
            <a:ext cx="391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les and stones were main parts of the Iranian and Persian artistic buil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ugs were made from wool and silk weav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untry had these materials but the people were hard workers but po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Royalties were kept by the Kings and Empi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freedom of expression-fear of being persecuted did not allow the people to fight for better living and showing off their artistic and musical skills to the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File:Persepolis 24.11.2009 11-49-5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48160" y="4343400"/>
            <a:ext cx="4695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35 President of Iran promised minorities to expand the use of their langu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te 1960’s and early 1970’s Iranian art boomed and was made available to the rest of the world. American galleries sold many of these contemporary 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After the Iran-Iraq war of 1980-1988 arts facilities reopen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d 1990’s movie theaters took flight with Iranian film and photography and schoo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were more involved in illustrating their music and artistic cul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ugs and worshipping songs are very popular here in the U.S. with the Islamic population growing very f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the Iran-Iraq war of 1980-1988 arts facilities reopen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d 1990’s movie theaters took flight with Iranian film and photography and schoo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men were more involved in illustrating their music and artistic cul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ugs and worshipping songs are very popular here in the U.S. with the Islamic population growing very fa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Mehmooni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867280"/>
            <a:ext cx="1352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e up: Iranian Cinema, Past, Present, Future (2001) Hamid Dabash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site-Persian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00:21:24Z</dcterms:created>
  <dc:creator>libint07</dc:creator>
  <dc:description/>
  <dc:language>en-US</dc:language>
  <cp:lastModifiedBy>139634</cp:lastModifiedBy>
  <dcterms:modified xsi:type="dcterms:W3CDTF">2013-12-17T13:13:13Z</dcterms:modified>
  <cp:revision>1</cp:revision>
  <dc:subject/>
  <dc:title>Iran and Persia </dc:title>
</cp:coreProperties>
</file>